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525-8337-43D1-A374-9F4EE473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BD9-FA2D-40D4-ADDD-A12E15A9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DA9-4D4C-4174-95C2-00DC00A6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C40-1B62-4A34-AA86-E3CAD4CB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23E8-511E-472F-BCC8-095C9BA5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6BAF-41D7-4E9C-A7D0-53066C66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0825-0125-4C2D-B968-3DBDE469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7F66-5707-4822-BA3F-2561B849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8BB8-C503-4391-B4C8-0E75A2E8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40B7-A662-4EC0-88CA-22B4FED1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31E5-E4CC-4111-A757-4C264FCA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F16-03A4-42F3-840E-767F7BDD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33E2-2A54-4CAC-9D37-76FDFE07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AEA1-926C-41C7-BB0F-DDEB5DC0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CB4B-8F85-4BAC-B647-A5E3A771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857F-53B0-4593-8879-7B24DBE0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A121-503D-43EC-AE20-C4EA48A9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09C-7A16-4BF2-AECF-8E9EE256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227-F871-4607-9936-24FAEBB8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B6E-C591-4852-94F4-47BBEA2B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524-8B56-4FDA-A9D5-5EB70DBD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B62-E6E3-4AFB-A367-C4A38108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018-72C0-4210-81CA-E94E5FD6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00F-1E77-4680-B687-8D92E016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5AE9-CCD9-4701-AE11-A16E160D653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BA2B-0E61-4697-A625-499F3F9CF55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Number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ayı işlevleri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Arial"/>
              </a:rPr>
              <a:t>Ceiling ( number 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ilen sayı veya formülün sonucunu büyük tamsayıya yuvarl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ani sayıları yukarı tamam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Arial"/>
              </a:rPr>
              <a:t>Ceiling ( number 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Ceiling ( 4.56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Ceiling ( -23.987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-2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Ceiling ( 10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Floor ( number 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ilen sayı veya formülün sonucunu alttaki tamsayıya yuvarl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ani sayıları aşağıya yuvarl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Floor ( number 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Floor ( 4.56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Floor ( -23.987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-2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Floor ( 10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Mod ( number ; divisor 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Mod ( 8;3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Mod ( 10;5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Mod ( 1.23;1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0.2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Text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etin işlevleri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in İşlevle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Length ( text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r metindeki harf sayısını ver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WordCount ( text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r metindeki kelime sayısını veri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PatternCount ( text ; searchString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Verilen bir dizenin bir metinde kaç defa geçtiğini ver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in İşlevle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Örnek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PatternCount (“Bir berber bir berbere bre berber gel beraber bir berber dükkanı açalım demiş” ; “bir”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in İşlevle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Position ( text; searchString ; start ; occurrence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Verilen bir dizenin bir metin neresinde geçtiğini göster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in İşlevle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Örn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Position ( “Fred Millstone” ; “e” ; 1 ; 1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=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Position ( “Fred Millstone” ; “e” ; 1 ; 2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=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Position ( “Fred Millstone” ; “red” ; 1 ; 1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=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Round ( number ; precision 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ilen sayı veya formülün sonucunu matematik kurallarına göre belirlenen ondalık sayısına göre yuvar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in İşlevle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Trim ( text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r metnin başında ve sonundaki boşlukları sil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Left ( text ; numberOfCharact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r metnin solundan başlayarak belirttiğiniz kadar karakter alı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Right ( text ; numberOfCharacters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r metnin sağından başlayarak belirttiğiniz kadar karakter alı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in İşlevle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Middle ( text ; start ; numberOfCharacters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r metnin belirteilen karakterden başlayarak istenilen kadar karakter alı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Date and Time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arih ve zaman işlevleri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rih ve Zaman İşlevle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Day (d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DayName (d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DayOfWeek (d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Month (d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MonthName (d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Year (d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rih ve Zaman İşlevle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Hour (ti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Minute (ti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Second (ti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rih ve Zaman İşlevle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Get (CurrentD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Get (CurrentTi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Get (CurrentTimestam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rih ve Zaman İşlevle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Date ( month ; day ; year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Time ( hour ; minute ; seconds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Timestamp ( date ; time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Logical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3357360"/>
            <a:ext cx="79819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ntıksal İşlevle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tıksal İşlevl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IsEmpty ( field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If ( test ; resultOne ; resultTwo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Case ( test1 ; result1 [ ; test2 ; result2 ; …] { ; defaultResult}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Text Formating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3357360"/>
            <a:ext cx="79819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etin Biçimlendirme İşlevler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Round ( number ; precision 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Round ( 43.216 ; 2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43.2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Round ( 56.32 ; 1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56.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Round ( 3.876 ; 0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Round ( 12355 ; -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12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Aggregate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3357360"/>
            <a:ext cx="79819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Özetleme İşlevler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Özetleme İşlevle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49360"/>
            <a:ext cx="7981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Count ( field { ; field}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Sum ( field { ; field}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Custom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3357360"/>
            <a:ext cx="79819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Özel İşlevler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Truncate ( number ; precision 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ilen sayı veya formülün sonucunda çıkan sayının, belirlenen ondalık sayısından fazlasını at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Truncate ( number ; precision 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Truncate ( 43.216 ; 2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43.2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Truncate ( 56.32 ; 1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56.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Truncate ( 3.876 ; 0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Truncate ( 12355 ; -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123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Arial"/>
              </a:rPr>
              <a:t>Random ( number 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0’la 1 arasında rastgele sayı üreti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Arial"/>
              </a:rPr>
              <a:t>Random ( number 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Rand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0.8641865774356697 olabil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Int ( number 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ilen sayı veya formülün sonucunun sadece tam kısmını alı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66"/>
                </a:solidFill>
                <a:latin typeface="Arial"/>
              </a:rPr>
              <a:t>Int ( number 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Int ( 4.56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=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Int ( -23.987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onuç = -2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0:01:14Z</dcterms:created>
  <dc:creator>ERTAS</dc:creator>
  <dc:description/>
  <dc:language>en-US</dc:language>
  <cp:lastModifiedBy>ERTAS</cp:lastModifiedBy>
  <dcterms:modified xsi:type="dcterms:W3CDTF">2014-12-08T15:19:19Z</dcterms:modified>
  <cp:revision>6</cp:revision>
  <dc:subject/>
  <dc:title>Ceiling ( number )</dc:title>
</cp:coreProperties>
</file>